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280-2D31-4028-A7B8-20EF4799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1E3-E572-423A-AA82-3CFF364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93A-B7AF-4CC0-AE16-D089AE5A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2A8-D9B1-4AE8-BA37-A4BA6A9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54FD-358F-4282-B921-B34DA709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675B-606A-434F-8E7E-B591B770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E4D9-8220-40F4-8FB4-0322C520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0E10-60A2-4728-9E8C-2E9D3FB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DEC2-6BB3-4BEB-BC23-03A6713E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BBB1-B495-492E-AF26-4E3C00A9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596-D120-4AEF-B7AF-DDD136C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F03-BED2-4220-992E-44D8B5B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334-711B-4A0A-95D6-06854E7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F0F3-AA25-46ED-BA3E-60CFDB5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1D3-F6B2-43BC-9F2F-964219DA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AE3-D41A-430D-BA79-954A6602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D4BE-8AB5-4494-8CE9-4C26ADB2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F16-9B84-445A-A819-3D6446B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000-62DB-4CC1-8190-551C0395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E8A-B339-4CB1-8AB9-591780D6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8F9-F609-4332-8891-A99D38D4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EFA-23AF-4B92-AA7C-045534EA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CD1-50D4-4EB9-8145-F5BC944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C42-FD4D-437D-A074-343E5F7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787-84BA-4B76-81B5-240C89FA34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FC66-4998-416F-B64D-BD6A251CCC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sers.rcn.com/jkimball.ma.ultranet/BiologyPages/P/PlantCell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all plant cells have chloroplasts?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your answe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3581280" y="3505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5" h="21600">
                <a:moveTo>
                  <a:pt x="1311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235" h="21600">
                <a:moveTo>
                  <a:pt x="1311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235" h="21600">
                <a:moveTo>
                  <a:pt x="10541" y="8224"/>
                </a:moveTo>
                <a:lnTo>
                  <a:pt x="14406" y="8224"/>
                </a:lnTo>
                <a:lnTo>
                  <a:pt x="14406" y="15221"/>
                </a:lnTo>
                <a:lnTo>
                  <a:pt x="15694" y="15221"/>
                </a:lnTo>
                <a:lnTo>
                  <a:pt x="15694" y="16144"/>
                </a:lnTo>
                <a:lnTo>
                  <a:pt x="10541" y="16144"/>
                </a:lnTo>
                <a:lnTo>
                  <a:pt x="10541" y="15221"/>
                </a:lnTo>
                <a:lnTo>
                  <a:pt x="11829" y="15221"/>
                </a:lnTo>
                <a:lnTo>
                  <a:pt x="11829" y="9129"/>
                </a:lnTo>
                <a:lnTo>
                  <a:pt x="10541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8:31Z</dcterms:created>
  <dc:creator>PritchaJ</dc:creator>
  <dc:description/>
  <dc:language>en-US</dc:language>
  <cp:lastModifiedBy>PritchaJ</cp:lastModifiedBy>
  <dcterms:modified xsi:type="dcterms:W3CDTF">2011-06-01T15:19:46Z</dcterms:modified>
  <cp:revision>1</cp:revision>
  <dc:subject/>
  <dc:title>Slide 1</dc:title>
</cp:coreProperties>
</file>